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5683-9AE3-4725-9CCB-DF51443C133F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Web stranice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E481-B619-4449-8F16-22E1D1899B6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AAF0-B165-4B94-B381-B13194EBAD7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0E0D-4648-4D77-B267-6CE3EA91C5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4E48-14FD-4C13-BEB4-BB551A41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2DE6-88A8-41AF-97AB-5B18B920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E4FD6-C9EF-4721-8852-D9400B53E5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3F059-760F-46A7-883E-ABD59838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5C195-A867-4F26-A75C-3FE199CC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60EB4-3850-4B09-881C-B4B1985D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FAA43-BF80-44D0-8AA4-7B399974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5B5B3-0BC4-4604-9069-2175472B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CFFF2-7962-4B71-9571-F9CE94A0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69D06-EDE0-469B-96FE-618B8A20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07C9-E2EC-4110-B75E-B648220C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4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B490F-BFC9-4B70-9B70-E76D0BA4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F3BBF-531A-49C4-B2C4-3E05F223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6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79FB8-B5D2-42C9-8914-AB1EDB14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4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439C2-652E-4D14-BE22-33B7358D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5080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324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36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5080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324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62751-D1DF-49FC-B96D-9709089D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E491F-B379-4478-9832-4C4C91D6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62977-493D-4375-9F06-ACEAB7A1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68535-9331-4249-9C5C-1E03DA43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CD24B-2D62-4EA0-894B-A73D549D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46531-D689-44F4-9086-437495BE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545C-746B-4D76-A9DE-33CE57C5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5BA69-D35F-4D0B-B82D-00973AD9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05904-2941-4356-BB7A-61E10874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54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D3529-641F-491B-A49F-FB3EAB96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1045E-C904-4CC3-A96A-E31CC93D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36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257E4-6ED3-49F8-B0D4-BCE54A56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54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45281-6009-4A0B-960E-D58283A8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5080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324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836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5080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324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28D59-C410-4EDA-BA36-E9658430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7973F-E4F7-4C4C-8127-C2B9EA7B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404EA-997E-44D5-ADA3-338D736F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549B8-41DC-4DE1-8154-DA5D246D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C9896-A840-4272-AB9B-EB50DDD6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2EC13-DFFA-4F4D-AC4D-AB15F54D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41F6C-251C-44DA-9386-A7F29C3B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976B7F-D402-4855-A4D9-BBEB709A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53566-A1C4-4F5C-B375-BCDCEC93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54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C6EE0-119D-4E04-A556-6B411D3C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1BBA3-EEF0-4AC5-BD51-2EA3B7FA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6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47940-16BD-490E-B5B8-BE444F45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54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2F19C-F3D1-4018-9E79-8D7BCD3A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5080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324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36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5080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324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BBCBE1-7F87-4685-B117-5CEB1900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C548B-CF8D-4431-938B-6E68C969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ED8A-573F-4E81-A436-7B74ED39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280E8-B76C-4B43-AD18-482275F9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19350-14D6-4D6E-A134-3B266DDE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B368C-44E0-44FD-BA02-6B7F3FEB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E6DB4-7542-4EFE-ABFC-740644E9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A299F-3F5A-48DF-8F4E-54247A21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7B46F-D527-45C2-8813-B4FB78BF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854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F5490-462F-4F74-878A-D0619EE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C43AC-70F8-42A9-ACE4-0E51088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36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4E920-FCA7-438A-8852-15C9061F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854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FB0B7-5A32-461C-BA21-257C98C5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3CE7-5EA2-4712-88A8-21A14278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5080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3324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836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5080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3324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5B1B7-7489-41FD-B0E1-DF749B95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29E8-EC9C-4F84-BA8E-42F346ED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AE5FF-1360-4CBC-B4A4-87E0555F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052C-8463-45FB-B289-0A74CBA6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70080"/>
          </a:xfrm>
          <a:prstGeom prst="rect">
            <a:avLst/>
          </a:prstGeom>
          <a:solidFill>
            <a:srgbClr val="0000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397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vaj projekt financira Europska un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listopad 201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9640" y="6237360"/>
            <a:ext cx="534960" cy="3636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41D0-7621-4AF4-B7F2-16BF85E09F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1763-30CE-48E6-A028-BA072ED002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D079-5E00-42E5-BF3C-EC5213A723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4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591C-EFA3-4F48-8741-822527EC97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371240"/>
            <a:ext cx="8424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EU projektni menadžment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436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57576e"/>
                </a:solidFill>
                <a:latin typeface="Arial"/>
              </a:rPr>
              <a:t>Vođenje projekta - uvo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68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2133720"/>
            <a:ext cx="9144000" cy="28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6021360"/>
            <a:ext cx="822240" cy="558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114560" y="6178680"/>
            <a:ext cx="246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aj projekt financira Europska uni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OMUNIKACIJ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2492280"/>
            <a:ext cx="822960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ni 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ni tim – ciljana skup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ni tim – ugovorno tij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ni tim – javnost (obveza vidljiv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OMUNIKACIJ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2565360"/>
            <a:ext cx="4038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ila vidljivosti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lan komunik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ess konferen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ane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Bann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lak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e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Broš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iopćenja za jav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pis me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ntakt pod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9480" y="2636640"/>
            <a:ext cx="403848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or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kalni medij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ionalni medij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akt podaci lokalnih di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RADITI PREDLOŠ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VILA VIDLJIVOST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tivnosti se trebaju provoditi na vri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formacije koje se daju moraju biti toč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tivnosti bi trebale biti koordinirane s Komisi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eba se obraćati ciljanom auditor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ruke bi trebale biti interesantne ciljanom auditor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tivnosti bi trebale biti primjerene s obzirom na potrošene resurse, vrijeme i očekivani uč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DLJIVO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2420640"/>
            <a:ext cx="799128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AVEZ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za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financira Europska un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a publikacija izrađena je uz pomoć Europske Unije. Sadržaj publikacije isključiva je odgovornost (autora/nositelja/partnera/međunarodne organizacije) i ni na koji se način ne može smatrati da odražava gledišta Europske Un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59480" y="2404800"/>
            <a:ext cx="403848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CI I BROŠ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2421000"/>
            <a:ext cx="8351640" cy="35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Zastava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isclaimer: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va publikacija izrađena je uz pomoć Europske Unije. Sadržaj publikacije isključiva je odgovornost (autora/ nositelja/ partnera/ međunarodne organizacije) i ni na koji se način ne može smatrati da odražava gledišta Europske Uni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etalji 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ontakt ime, adresa, telefon, fax, 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efinicija E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uropska unija ima 27 država Članica koje su odlučile postupno povezati svoje znanje, resurse i sudbine. Zajedno, tijekom razdoblja proširenja od 50 godina, izgradili su zonu stabilnosti, demokracije i održivog razvoja, istodobno zadržavajući kulturnu različitost, toleranciju i slobodu pojedinca. Europska unija je predana dijeliti svoja postignuća i vrijednosti s drugim zemljama i ljudima izvan svojih granica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DLJIVO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000" y="2405160"/>
            <a:ext cx="8675640" cy="15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MUNIKACIJSKI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pći ciljev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komunik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iljana skupi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unutar zemlje gdje se projekt implementira, Unutar EU – ako je primjenj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pecifični ciljev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za svaku ciljanu skupinu vezano na projektne ciljeve i faze projektnog ciklusa (npr. podizanje svijesti poslodavaca o zapošljavanju žena na tržištu r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DLJIVOS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Glavne aktivnost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roda akti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ko je odgovoran za provedbu akti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dabrani komunikacijski alat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mediji, oglašavanje, događ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Indik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ovratna informaci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o akti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Ljudski resurs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tko je odgovoran za implementaciju komunikacijskih akti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Financijska sred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ZMJENE UGOVOR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je promjene u Ugov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guće napraviti bez potpisivanja dopune ugov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jčešće promjene u proračunu do 15% među zaglavljima – korisnik pismeno mora obavijestiti Ugovorno tij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jena djelat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jena adr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jena bankovnog rač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jena reviz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jenos unutar zaglavl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ošenje ili ukidanje stavke do 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ZMJENE U UGOVOR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000" y="2349360"/>
            <a:ext cx="8351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Veće promjene u Ugov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ve promjene ili dodavanja aktivnosti koje nisu opisane u važećem ugovoru o darovnici (promjena ciljane skupine, dodavanje aktivnosti projek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Zahtjev za adendum ugovora mora se predati najmanje mjesec dana prije nego li će promjene nas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zmjene administrativnih troškova i pričuv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Veće promjene koli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Veće promjene projektnih rezult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zmjene (uvođenje, ukidanje, prijenos sredstava između zaglavlja) koje su veće od 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ZMJENE U UGOVOR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jene ugovora koje nisu dozvol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ak ugovoru ne može imati svrhu izmjene ugovora koje bi dovele u pitanje odluku o dodjeli bespovratnih sredstava ili koje bi bile protivne ravnopravnom tretmanu prijav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smije se mijenjati maksimalan iznos dodijeljenih sred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LOGE U PROVEDBI PROJEK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GOVORNOST ZA PROVEDBU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onici u provedb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uropska komis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govorno tij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orisnik projek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artneri na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uradn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dugovaratel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Ciljana skup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stali dion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FINANCIJSKA PRAVILA U PROVEDBI – PRIHVATLJIVOST TROŠKOVA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539280" y="2636640"/>
            <a:ext cx="80010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Obveza je prijavitelja paziti na prihvatljivost svojih troškova i načina na koji troši nov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Svi neprihvatljivi troškovi se oduzimaju od ukupnog iznosa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Novac koji nije potrošen iz proračuna projekta mora se vratiti u EU (izravno utječe na stopu apsorpcije IPA sredst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RIHVATLJIVI TROŠKOVI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68000" y="2349000"/>
            <a:ext cx="80010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Da bi bili prihvatljivi, troškovi moraju bi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Neophodni za provedbu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Navedeni u predviđenom cjelokupnom proračunu akcije (ili kasnijim izmjena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Nastali tijekom proved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Mogući za utvrditi i provjeriti, osobito moraju biti zabilježeni u računovodstvenim knjig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Komunicirani izvještajem ugovornom tije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PRIHVATLJIVI TROŠKOVI U IPA-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50440" y="2539800"/>
            <a:ext cx="80010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Porezi, uključujući porez na dodanu vrijed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Carine i uvozne pristojbe ili bilo kakve druge nakn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Kupnja, najam ili zakup zemlje i postojećih zgrada, osim ako su najam ili zakup isključivo povezani s razdobljem sufinanciranja projekta, te da imaju prednost pred ostalim rješenjima (najbolja vrijednost za nov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Novčane kazne, financijske globe i troškovi par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PRIHVATLJIVI TROŠKOVI U IPA-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Operativni troškovi, osim ako se operativni troškovi isključivo odnose na razdoblje sufinanciranja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Rabljena opr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Bankovne naknade, trošak jamstava i slični izd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Troškovi konverzije, naknade i gubitci pri razmjeni valuta povezani s bilo kojom komponentom određenih euro računa, kao i ostali isključivo financijski trošk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NEPRIHVATLJIVI TROŠKOVI U IPA-i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50440" y="2426760"/>
            <a:ext cx="80010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Doprinosi u nar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Troškovi održavanja i najma, osim ako se troškovi najma odnose isključivo na razdoblje sufinanciranja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Troškovi amortizacije za infrastruk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RAČUNOVODSTVO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550440" y="2539800"/>
            <a:ext cx="80010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U skladu sa hrvatskim zakonodavnim okvi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U skladu s hrvatskim standardima i normama – klasično dvojno knjigovod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UPRAVLJANJE DOKUMENTIMA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550440" y="2539800"/>
            <a:ext cx="80010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Dokumenti trebaju biti smješteni / držani uredno i pristupačni u slučaju posjete u svrhu prać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Sve aktivnosti trebaju biti dokumentirane i popraćene odgovarajućim dokumen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Svi dokumenti projekta (originali ili preslike) trebaju biti na jednom mjestu – u instituciji prijavitelja projekta (kopije s naznakom gdje se nalazi origi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Čuvanje evidencija: 7 godina nakon finalnog plać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RIMJERI DOKUMENATA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8001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Liste prisutnosti s događanja na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Fotograf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Svi dokumenti u svezi vidljiv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Zaključ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Zapisni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RIMJERI DOKUMENATA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Izvješća sa seminara, konferencija, sastanaka, radionica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Evaluacijski upitnici od svakog sudionika događ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Prezentacije i ostali radni materij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Komunikacija s Ugovornim tije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JUDSKI RESURSI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4000" y="2637000"/>
            <a:ext cx="8216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400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Bilo koja osoba zaposlena na projektu, a koja već prima redovnu plaću od institucije koja je financirana javnim proračunom ne može primiti novu plaću iz sredstava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Plaća te osobe može biti prihvatljiva jedino kao sufinanciranje korisnika (ili partn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Na kraju projekta, udio sufinanciranja će se provjeriti (% promjena u slučaju nepotpunog utroška sredst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GOVORNE OBVEZE U PROVEDBI PROJEK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360" y="263700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DRŽAJ UGOVORA O DAROV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ebni uvjeti ugov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is projekta i logička ma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ći uvjeti ugov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račun projek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upci dodjele ugov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ni zahtjev za plaćanjem i obrazac financijske identifik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azac narativnog i financijskog izvješć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azac izvještaja o činjeničnim nalazima i opis posla revizora ugovora o darovn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LJUDSKI RESURSI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Osobe koje su javni službenici mogu biti angažirani kao stručnjaci, ali ne od strane konzorcija čiji je projekt, nego na drugim projek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Evidenciju vremena provedenog na projektu -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imeshee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-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trebaju ispuniti sve osobe koje rade na projektu (osim onih koji rade 100% na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JUDSKI RESURSI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24000" y="2637000"/>
            <a:ext cx="8216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Podugovorene osobe također moraju ispuniti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timeshee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 za  provedeno vrijeme na projektu ukoliko im je ugovorom definiran broj d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Evidencije o vremenu provedenom na projektu potpisuju djelatnici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i/ili vanjski stručnjaci (onaj tko je ra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Evidenciju nečijeg rada mora potvrditi još jedna osoba (ili voditelj projekta ili ovlaštena oso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Prihvatljivi su bruto iznosi plaća (bruto 2), u skladu s proračun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OKUMENTIRANJE LJUDSKIH RESURSA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94920" y="2636640"/>
            <a:ext cx="8217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Za zaposlenike: odresci od plaće na kojima se mora vidjeti iznos bruto 2 plaće (ako se ne vidi – dopisa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Ugovori za sve novozaposlene / vanjske suradnike / stručnjake / fi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Računi, ako je to primjenj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OKUMENTIRANJE LJUDSKIH RESURSA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Evidencije o vremenu na projektu /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time sheets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(osim za osobe angažirane na 100% u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Dokaz o isplati plaće (s porezima i doprinosima) ili ugovora / računa (izvodi iz plaća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STALI TROŠKOVI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24000" y="2565360"/>
            <a:ext cx="821664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 algn="just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Dokumentiraju se fakturama, nalozima za isplatu, narudžbenica, izvod s računa da je uplać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Plaćanje troškova bi trebalo obaviti izravno s projektnog računa ili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just-in-tim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 prijenosom na osnovni račun netom prije nego bi se isplata naprav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Svi troškovi moraju nastati prije kraja ugovora (izuzeci su troškovi revizije i evaluacije / troškovi vezani uz pripremu finalnog izvještaja), a biti plaćeni najkasnije prija slanja izvještaja / reviz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0010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ADMINISTRATIVNI TROŠKOVI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24000" y="2637000"/>
            <a:ext cx="8216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Neizravni troškovi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Ne mogu se koristiti za pokrivanje onih izravnih troškova akcije koji su spomenuti u gornjem dijelu prorač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Svi troškovi koje prijavitelj/partner treba za administriranje projekta, to su režijski troškovi (telefon, struja, uredski materijal, najamnina itd.), moraju biti u skladu s uvjetima prihvatljivosti trošk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DMINISTRATIVNI TROŠKOVI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Administrativne troškove ne treba navoditi u izvješću, niti treba poslati dokaze o 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Međutim, svi troškovi trebaju biti evidentirani u računovodstvenim evidencijama (gdje se odlažu raču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Paušal od najviše 7% odnosno točno onoliko koliko je definirano posebnim uvjetima ugo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Prihvatljiv iznos administrativnih troškova izračunat će se zajedno sa završnim izvješć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ADMINISTRATIVNI TROŠKOVI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216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Tek onda kad se potvrdi prihvatljivost svih direktnih troškova, odredit će se iznos tih administrativnih trošk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Administrativni troškovi se ne prikazuju u kvartalnim izvješć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ahoma"/>
              </a:rPr>
              <a:t>Preraspodjele između administrativnih troškova i ostalih proračunskih stavki nisu dozvol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EBNI UVJET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ziv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ajanje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kupan iznos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nos i postotak financiranja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otak neizravnih troš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čin narativnog i financijskog izvješt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nos predfinancir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ĆI UVJETI UGOVOR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270792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Članak 1 – Opće obv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Članak 2 – Obveza pružanja informacija i financijskih i narativnih izvješć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lanak 3 – Odgovor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lanak 4 – Sukob inte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lanak 5 – Povjerljiv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Članak 6 – Vidljiv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lanak 7 – Vlasništvo/korištenje rezultata i im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lanak 8 – Evaluacija/praćenje Projek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Članak 9 – Izmjene i dopune Ugov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ĆI UVJETI UGOVOR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lanak 10 – Prijenos sreds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Članak 11 – Razdoblje provedbe Ugovora, produžetak, suspenzija, viša sila i datum završet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Članak 12 – Raskid Ugov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lanak 13 – Nadležno pravo i rješavanje spor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Članak 14 – Prihvatljivi troško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Članak 15 – Isplata i kamate na zakašnjelu ispla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Članak 16 – Evidencija i tehničke i financijske provj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lanak 17 – Konačan iznos financiranja od strane Ugovaratel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lanak 18 – Povrat sreds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GOVORNE OBVEZ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8360" y="249192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izanje projektnih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veza vidljiv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veza izvješt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veza korištenja javne nab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uvanje dokume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čunovods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jska revi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PRAVLJANJE PROJEKTO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ordinacija i upravljanje aktivnos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emenski plan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govornost za provedbu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ravljanje ljudskim resur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ravljanje nov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ravljanje rizi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PRAVLJANJE PROJEKTNIM TIMO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360" y="27082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viti sastanci internog 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viti sastanci s partne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umentiranje sastan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tograf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prisut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isnik sa sastanka (potpisan od sudio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14:45Z</dcterms:created>
  <dc:creator>mkoski</dc:creator>
  <dc:description/>
  <dc:language>en-US</dc:language>
  <cp:lastModifiedBy>Admin</cp:lastModifiedBy>
  <dcterms:modified xsi:type="dcterms:W3CDTF">2012-10-11T06:29:15Z</dcterms:modified>
  <cp:revision>48</cp:revision>
  <dc:subject/>
  <dc:title>MODUL 5</dc:title>
</cp:coreProperties>
</file>