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E4F-8099-4FDA-85DC-EC76246B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623120"/>
            <a:ext cx="822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03A-2E8A-4184-8598-F3486B43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C72-A54E-40F4-8D59-68A7D045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56500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56500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62312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62312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62312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940-0E30-48BB-959E-0D7F6FB7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E2F6-B449-499F-A8F8-114CBEB1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C479-4DD5-4A76-9E3C-1A2927D3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A713-53E9-42EF-9CD5-9E544A0B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FA9B-D064-40EE-BF64-DB288ABF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2D50-F709-4189-8B20-FE3689B7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1BBE-E495-4AC9-9C8B-27A7223A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5C12-1E1A-4271-92A1-412E62D4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743-0384-4181-921F-A3956E63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E2F5-E558-42E1-8407-5054242D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623120"/>
            <a:ext cx="822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C095-8809-4ED6-A695-937DAD3A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623120"/>
            <a:ext cx="822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4092-8947-4449-A809-3C3DC2D6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C52C-0A12-496F-A680-DB447A15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256500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256500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62312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62312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62312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9053-B0E8-40A1-A08F-2C34FAEB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E58B3-2EFC-426E-AA6B-11A6E2F3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8AAF5-D0F3-40C6-B169-B025604A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8404B-4E21-4EF1-8991-654B0496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17ED9-F7EA-4552-9F1C-B85A3F5E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91B50-1AE2-4EB2-95FC-DA5FB901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C728-0B49-455A-97CE-33B8AB8D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EB4F2-5F3D-49D0-A4A5-F530803D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36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1C4BD-3C11-47B5-9091-C130624D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540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0A214-58C5-469D-BBA2-A830C95C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8360" y="4623120"/>
            <a:ext cx="822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699EC-6BF3-4FF6-B7DC-D440B7FB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360" y="4623120"/>
            <a:ext cx="822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1E724-A4EB-4B62-A8D3-2757F422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836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8540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72885-DAB4-4566-9746-0FA6B8DE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50800" y="256500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3240" y="256500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8360" y="462312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50800" y="462312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3240" y="462312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44226-F9C1-4428-A6B8-4677CB9D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A9A54-8642-49D8-BEDC-F29379CF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5A71E-9B36-4745-A57E-CD1540C0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B65C8-A9E0-4D75-B9E8-AF629C5F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6FF-21D2-4B14-806D-9371537B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52577-FBA1-4FBD-9456-6341EB1A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F1C90-7A54-4F8B-AC52-1C10CE99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375FE-9720-4884-AD23-6E2EE892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DC450-00F7-456B-B6F4-FAFB9768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540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8CC7F-4BB7-4D50-B2A5-BB3D97F3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8360" y="4623120"/>
            <a:ext cx="822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DF76D-83E0-445B-A0CF-459C8FB8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360" y="4623120"/>
            <a:ext cx="822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D499F-71A1-4D52-BB37-D7F2A302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836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540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0724F-F6CE-4AC4-8460-B95DA846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50800" y="256500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33240" y="256500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8360" y="462312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50800" y="462312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33240" y="462312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592E5-626B-4B50-AFD5-45E0EC04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F31D7-2C20-4B01-8C7A-F8A72290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7D4-32AD-4039-ABCE-CD54B5FF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3A0D9-ADB8-4351-AE9B-6A0147BA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958F0-B205-425B-B0F6-C0408E9F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CC932-DF54-4BFE-B8E0-C87060CB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8929A-ECEA-4E4C-A22C-24CE0C36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A9895-42DD-4299-8FA3-399B286C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836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ACDD5-7325-43AC-BE52-F8F021AF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540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9FCC3-0473-49B4-9CDD-F635047F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360" y="4623120"/>
            <a:ext cx="822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49C55-CE85-4A03-979E-9720BC8C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360" y="4623120"/>
            <a:ext cx="822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D6453-4D6B-4724-B52D-36695B6C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836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540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192A8-3806-4B78-9C8C-C827EA59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FC5-D4A0-4DB1-89A1-BA08F761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50800" y="256500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33240" y="256500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8360" y="462312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50800" y="462312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33240" y="4623120"/>
            <a:ext cx="264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38BAD-F2C3-4B3D-8C10-189D678E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6D1-BD8F-4641-90F7-A4A5719E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62312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8BA-A47D-46DF-A943-C4D8ED9C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565000"/>
            <a:ext cx="40158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623120"/>
            <a:ext cx="822960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9B7-86B5-47AF-88D8-4E77DD38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70080"/>
          </a:xfrm>
          <a:prstGeom prst="rect">
            <a:avLst/>
          </a:prstGeom>
          <a:solidFill>
            <a:srgbClr val="00008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DDB1-22AF-41D1-8696-4E11975D77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2133720"/>
            <a:ext cx="9144000" cy="288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822600" cy="5590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041480" y="6308640"/>
            <a:ext cx="246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92934"/>
                </a:solidFill>
                <a:latin typeface="Arial"/>
              </a:rPr>
              <a:t>Ovaj projekt financira Europska unija</a:t>
            </a:r>
            <a:endParaRPr b="0" lang="en-US" sz="11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16864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636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BF2F-D793-4CFB-B932-2EDA5C733B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133720"/>
            <a:ext cx="9144000" cy="288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6093000"/>
            <a:ext cx="822240" cy="55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41480" y="6308640"/>
            <a:ext cx="246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92934"/>
                </a:solidFill>
                <a:latin typeface="Arial"/>
              </a:rPr>
              <a:t>Ovaj projekt financira Europska unija</a:t>
            </a:r>
            <a:endParaRPr b="0" lang="en-US" sz="11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8CF7-8C64-496D-B765-AC3DECA613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9B46-A2D2-4E26-8BCF-BB75D50D99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A16B-2B3F-4D6F-9192-0BEAAF2AC5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1.%20obrasci%20TD/1.2.%20instruction%20to%20tenderes.doc" TargetMode="External"/><Relationship Id="rId2" Type="http://schemas.openxmlformats.org/officeDocument/2006/relationships/hyperlink" Target="file:///1.%20obrasci%20TD/1.3.%20special%20conditions.doc" TargetMode="External"/><Relationship Id="rId3" Type="http://schemas.openxmlformats.org/officeDocument/2006/relationships/hyperlink" Target="file:///1.%20obrasci%20TD/1.5.%20ToR.doc" TargetMode="External"/><Relationship Id="rId4" Type="http://schemas.openxmlformats.org/officeDocument/2006/relationships/hyperlink" Target="file:///1.%20obrasci%20TD/1.6.%20experts.doc" TargetMode="External"/><Relationship Id="rId5" Type="http://schemas.openxmlformats.org/officeDocument/2006/relationships/hyperlink" Target="file:///1.%20obrasci%20TD/1.12.%20tenders%20declaration.doc" TargetMode="External"/><Relationship Id="rId6" Type="http://schemas.openxmlformats.org/officeDocument/2006/relationships/hyperlink" Target="file:///1.%20obrasci%20TD/4_aneks_organizacija%20i%20metodologija_tehnicka%20ponuda.doc" TargetMode="External"/><Relationship Id="rId7" Type="http://schemas.openxmlformats.org/officeDocument/2006/relationships/hyperlink" Target="file:///1.%20obrasci%20TD/6_proracun.xls" TargetMode="External"/><Relationship Id="rId8" Type="http://schemas.openxmlformats.org/officeDocument/2006/relationships/hyperlink" Target="file:///1.%20obrasci%20TD/7_obrazac%20pravne%20osobe.xls" TargetMode="External"/><Relationship Id="rId9" Type="http://schemas.openxmlformats.org/officeDocument/2006/relationships/hyperlink" Target="file:///1.%20obrasci%20TD/8_financijska%20identifikacija.xls" TargetMode="External"/><Relationship Id="rId10" Type="http://schemas.openxmlformats.org/officeDocument/2006/relationships/hyperlink" Target="file:///1.%20obrasci%20TD/1.10.%20administrative%20grid.doc" TargetMode="External"/><Relationship Id="rId11" Type="http://schemas.openxmlformats.org/officeDocument/2006/relationships/hyperlink" Target="file:///1.%20obrasci%20TD/1.11.%20evaluation%20grid.doc" TargetMode="External"/><Relationship Id="rId12" Type="http://schemas.openxmlformats.org/officeDocument/2006/relationships/hyperlink" Target="file:///1.%20obrasci%20TD/1.12.%20tenders%20declaration.doc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2.%20evaluacija%20ponuda/4.%20Declaration%20of%20impartiality%20and%20confidentiality.doc" TargetMode="External"/><Relationship Id="rId2" Type="http://schemas.openxmlformats.org/officeDocument/2006/relationships/hyperlink" Target="file:///2.%20evaluacija%20ponuda/4.%20Declaration%20of%20impartiality%20and%20confidentiality.doc" TargetMode="External"/><Relationship Id="rId3" Type="http://schemas.openxmlformats.org/officeDocument/2006/relationships/hyperlink" Target="file:///2.%20evaluacija%20ponuda/4.%20Declaration%20of%20impartiality%20and%20confidentiality.doc" TargetMode="External"/><Relationship Id="rId4" Type="http://schemas.openxmlformats.org/officeDocument/2006/relationships/hyperlink" Target="file:///2.%20evaluacija%20ponuda/3.%20tender%20opening%20report.doc" TargetMode="External"/><Relationship Id="rId5" Type="http://schemas.openxmlformats.org/officeDocument/2006/relationships/hyperlink" Target="file:///1.%20obrasci%20TD/1.10.%20administrative%20grid.doc" TargetMode="External"/><Relationship Id="rId6" Type="http://schemas.openxmlformats.org/officeDocument/2006/relationships/hyperlink" Target="file:///1.%20obrasci%20TD/1.10.%20administrative%20grid.doc" TargetMode="External"/><Relationship Id="rId7" Type="http://schemas.openxmlformats.org/officeDocument/2006/relationships/hyperlink" Target="file:///1.%20obrasci%20TD/1.10.%20administrative%20grid.doc" TargetMode="External"/><Relationship Id="rId8" Type="http://schemas.openxmlformats.org/officeDocument/2006/relationships/hyperlink" Target="file:///1.%20obrasci%20TD/1.11.%20evaluation%20grid.doc" TargetMode="External"/><Relationship Id="rId9" Type="http://schemas.openxmlformats.org/officeDocument/2006/relationships/hyperlink" Target="file:///2.%20evaluacija%20ponuda/5.%20evaluation%20report.doc" TargetMode="External"/><Relationship Id="rId10" Type="http://schemas.openxmlformats.org/officeDocument/2006/relationships/hyperlink" Target="file:///2.%20evaluacija%20ponuda/8.%20letter%20to%20unsuccessful%20tenderer.doc" TargetMode="External"/><Relationship Id="rId11" Type="http://schemas.openxmlformats.org/officeDocument/2006/relationships/hyperlink" Target="file:///2.%20evaluacija%20ponuda/6.%20notification%20letter.doc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5.%20folder%20-%20Tender%20Dossier/2.1.%20-%20Invitation%20to%20tender.doc" TargetMode="External"/><Relationship Id="rId2" Type="http://schemas.openxmlformats.org/officeDocument/2006/relationships/hyperlink" Target="file:///5.%20folder%20-%20Tender%20Dossier/2.2.-%20Instructions%20to%20tenderers.doc" TargetMode="External"/><Relationship Id="rId3" Type="http://schemas.openxmlformats.org/officeDocument/2006/relationships/hyperlink" Target="file:///5.%20folder%20-%20Tender%20Dossier/2.3.%20-%20Draft%20contract.doc" TargetMode="External"/><Relationship Id="rId4" Type="http://schemas.openxmlformats.org/officeDocument/2006/relationships/hyperlink" Target="file:///5.%20folder%20-%20Tender%20Dossier/2.4.%20-%20Special%20Conditions.doc" TargetMode="External"/><Relationship Id="rId5" Type="http://schemas.openxmlformats.org/officeDocument/2006/relationships/hyperlink" Target="file:///5.%20folder%20-%20Tender%20Dossier/2.5.%20-%20General%20Conditions.pdf" TargetMode="External"/><Relationship Id="rId6" Type="http://schemas.openxmlformats.org/officeDocument/2006/relationships/hyperlink" Target="file:///5.%20folder%20-%20Tender%20Dossier/2.6.%20-%20TS%20+TO_aneks%20II+III.doc" TargetMode="External"/><Relationship Id="rId7" Type="http://schemas.openxmlformats.org/officeDocument/2006/relationships/hyperlink" Target="file:///5.%20folder%20-%20Tender%20Dossier/2.7.%20-%20Budget%20breakdown.doc" TargetMode="External"/><Relationship Id="rId8" Type="http://schemas.openxmlformats.org/officeDocument/2006/relationships/hyperlink" Target="file:///5.%20folder%20-%20Tender%20Dossier/2.8.a.%20performance%20guarantee.doc" TargetMode="External"/><Relationship Id="rId9" Type="http://schemas.openxmlformats.org/officeDocument/2006/relationships/hyperlink" Target="file:///5.%20folder%20-%20Tender%20Dossier/2.8.a.%20performance%20guarantee.doc" TargetMode="External"/><Relationship Id="rId10" Type="http://schemas.openxmlformats.org/officeDocument/2006/relationships/hyperlink" Target="file:///1.%20obrasci%20TD/8_financijska%20identifikacija.xls" TargetMode="External"/><Relationship Id="rId11" Type="http://schemas.openxmlformats.org/officeDocument/2006/relationships/hyperlink" Target="file:///1.%20obrasci%20TD/1.10.%20administrative%20grid.doc" TargetMode="External"/><Relationship Id="rId12" Type="http://schemas.openxmlformats.org/officeDocument/2006/relationships/hyperlink" Target="file:///5.%20folder%20-%20Tender%20Dossier/2.10.-%20Evaluation%20grid.doc" TargetMode="Externa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5480" y="2205000"/>
            <a:ext cx="7848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EU projektni menadžmen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95280" y="3499920"/>
            <a:ext cx="6400800" cy="13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7576e"/>
                </a:solidFill>
                <a:latin typeface="Arial"/>
              </a:rPr>
              <a:t>Vođenje projekta – natječajne procedur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RITERIJ ZA DODJELU UGOVOR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34"/>
                </a:solidFill>
                <a:latin typeface="Arial"/>
              </a:rPr>
              <a:t>NAJNIŽA CIJENA PONUDE KOJA ZADOVOLJAVA TEHNIČKE SPECIFIKACE!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HNIČKE SPECIFIKACIJE OPRE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2624040"/>
            <a:ext cx="79200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Moraju biti jasne, sažete, neutralne i osigurati jednak pristup svim ponuditeljima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92934"/>
                </a:solidFill>
                <a:latin typeface="Arial"/>
              </a:rPr>
              <a:t>Tehničke specifikacije sadrže minimalne zahtjeve koje ponuđena oprema mora zadovoljiti ukoliko nije drugačije naznačeno u specifikacijama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Riječi kao što su “minimum”, “at least”, “or higher” nije potrebno stavljati u specifikacije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92934"/>
                </a:solidFill>
                <a:latin typeface="Arial"/>
              </a:rPr>
              <a:t>Zabranjeno spominjati ili opisivati proizvod određene marke i time favorizirati ili isključivati određene proizvod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U iznimnim slučajevima (npr. OS) moguće koristiti izraz “or equivalent”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HNIČKE SPECIFIKACIJE OPRE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92934"/>
                </a:solidFill>
                <a:latin typeface="Arial"/>
              </a:rPr>
              <a:t>Ne smiju sadržavati izraze kao što su 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otprilike, oko, cca itd., </a:t>
            </a:r>
            <a:r>
              <a:rPr b="0" lang="vi-VN" sz="1800" spc="-1" strike="noStrike">
                <a:solidFill>
                  <a:srgbClr val="292934"/>
                </a:solidFill>
                <a:latin typeface="Arial"/>
              </a:rPr>
              <a:t>kao druge neodređene 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izraz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Izbjegavati izraze – 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visoke kvalitete, odlično..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Nijedan zahtjev ne smije biti naveden kao opcionalan – svaki zahtjev naveden u tehničkim specifikacijama je obavezan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Zahtjevi moraju biti postavljeni na način da se za vrijeme odabira ponuda mogu ocijeniti sa DA ili NE (zadovoljava ili ne zadovoljava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Nije potrebno definirati standardne zahtjeve za koje je jasno da ih svi proizvodi (ili barem velika većina) na tržištu sigurno zadovoljavaju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HNIČKE SPECIFIKACIJE OPRE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8000" y="2707920"/>
            <a:ext cx="8280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Voditi računa da na tržištu postoji proizvod koji će zadovoljiti sve zahtjeve postavljene u tehničkim specifikacijama (svaki NE znači i eliminaciju ponude)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292934"/>
                </a:solidFill>
                <a:latin typeface="Arial"/>
              </a:rPr>
              <a:t>Tehničke specifikacije ne smiju biti predetaljne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8360" y="4005360"/>
            <a:ext cx="821376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292934"/>
                </a:solidFill>
                <a:uFillTx/>
                <a:latin typeface="Arial"/>
              </a:rPr>
              <a:t>USLUGE PRIJE PRIHVATA ROB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instalacija, konfiguracija, integracija, kalibracija, trening, testiranje, dostava dokumentacije itd.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potrebno ih je opisati unutar specifikacija pojedinog proizvoda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tražiti instalaciju!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HNIČKE SPECIFIKACIJE OPRE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292934"/>
                </a:solidFill>
                <a:uFillTx/>
                <a:latin typeface="Arial"/>
              </a:rPr>
              <a:t>USLUGE NAKON PRIHVATA ROB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Produžetak garancije, održavanje, nadogradnja opreme, vrijeme odaziva i otklanjanja kvarova, dostupnost rezervnih dijelova i održavanja itd.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Potrebno ih opisati u zasebnoj tablici na kraju specifikacija te troškove planirati u proračunu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SAMO JEDNA PONUDA (single tender) &lt;10.000 EU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292934"/>
                </a:solidFill>
                <a:latin typeface="Arial"/>
              </a:rPr>
              <a:t>Opis procesa pregovaranj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292934"/>
                </a:solidFill>
                <a:latin typeface="Arial"/>
              </a:rPr>
              <a:t>Opis kako je provedeno pregovaranje (uključujući i financijske detalje) i mogući problemi povezani s pregovorima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292934"/>
                </a:solidFill>
                <a:latin typeface="Arial"/>
              </a:rPr>
              <a:t>(</a:t>
            </a:r>
            <a:r>
              <a:rPr b="0" i="1" lang="hr-HR" sz="1800" spc="-1" strike="noStrike">
                <a:solidFill>
                  <a:srgbClr val="292934"/>
                </a:solidFill>
                <a:latin typeface="Arial"/>
              </a:rPr>
              <a:t>Gdje je pozvano više kandidata koji su kasnije odbačeni, objasnite razloge za njihovo isključenje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292934"/>
                </a:solidFill>
                <a:latin typeface="Arial"/>
              </a:rPr>
              <a:t>Rezultat pregovaranj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292934"/>
                </a:solidFill>
                <a:latin typeface="Arial"/>
              </a:rPr>
              <a:t>Detaljan opis rezultata postignutih tijekom procesa pregovaranja, osobito: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292934"/>
                </a:solidFill>
                <a:latin typeface="Arial"/>
              </a:rPr>
              <a:t>Opravdanje izbora uspješnog ponuditelja kojem se namjerava dodijeliti ugovor.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292934"/>
                </a:solidFill>
                <a:latin typeface="Arial"/>
              </a:rPr>
              <a:t>Informacije o verifikaciji da odabrani kandidat nije u jednoj od situacija za isključenj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REMENSKI RASPOR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50920" y="2492280"/>
          <a:ext cx="8713800" cy="3909960"/>
        </p:xfrm>
        <a:graphic>
          <a:graphicData uri="http://schemas.openxmlformats.org/drawingml/2006/table">
            <a:tbl>
              <a:tblPr/>
              <a:tblGrid>
                <a:gridCol w="1296720"/>
                <a:gridCol w="1872000"/>
                <a:gridCol w="1944360"/>
                <a:gridCol w="1872000"/>
                <a:gridCol w="1728720"/>
              </a:tblGrid>
              <a:tr h="663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≥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EUR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-200.00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.000 i više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USLUGE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40 dana; 1,5 mjeseci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80 dana – 3 mjesec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02 dana 6,5 mjeseci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663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  <a:ea typeface="Arial"/>
                        </a:rPr>
                        <a:t>≥</a:t>
                      </a: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0.000EUR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0.000-60.00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60.000 do 150.00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50.000 i više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ROBE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40 dana; 1,5 mjeseci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80 dana – 3 mjesec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10 dana – 4 mjesec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90 dana – 6 mjeseci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663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  <a:ea typeface="Arial"/>
                        </a:rPr>
                        <a:t>≥</a:t>
                      </a: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0.000EUR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0.000-300.00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00.000 do 5.000.00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5.000.000 i više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RADOVI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58 dana – 2 mjesec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05 dana 3,5 mjeseci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65 dana – 5,5 mjeseci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55 dana – 8,5 mjeseci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POGREŠKE U SEKUNDARNOJ NABAV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primjena / korištenje krivog postupka (pragovi iznosa) - cijepanje nabave (nabava po stavkama),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nepostojanje istraživanja tržišta tijekom pripreme projekta / čišćenja proračuna (ako proračun više nije dovoljan za nabavu),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istraživanje tržišta napravljeno bez post-prodajnih usluga,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spominjanje imena marki u tehničkoj specifikaciji,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specifikacije prilagođene određenom dobavljaču (moguće žalbe ostalih ponuditelja),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nedefinirane „post-prodajne usluge“ u specifikaciji vode do manjka sredstava ili neodgovarajuće instalacije / korištenja opreme,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opis posla za usluge nije odgovarajuće izrađen (nejasna usluga ili kriteriji za stručnjake),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POGREŠKE U SEKUNDARNOJ NABAV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prekratko trajanje natječaj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nedostaju jasni kriteriji za dodjelu ugovora,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primljene ponude su nepotpune,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životopisi mogućih podizvođača su neodgovarajući (ili odabrani bez opravdanja odluke),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ne poštuje se podrijetlo iz EU-a (nedostaju uvjerenja o podrijetlu iz EU-a za stavke čija vrijednost prelazi 5.000 EUR),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ne poštuje se vidljivost,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dokumenti izgubljeni tijekom postupka nabave ili u godinama koje slijede …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INDIKATORI RIZIKA SEKUNDARNE NABA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92934"/>
                </a:solidFill>
                <a:latin typeface="Arial"/>
              </a:rPr>
              <a:t>Aneks VII Posebnih uvjeta grant ugovora – Verifikacija troškova – Opis poslova revizora, str. 12. Tablica indikatora rizika </a:t>
            </a:r>
            <a:r>
              <a:rPr b="0" i="1" lang="hr-HR" sz="1800" spc="-1" strike="noStrike">
                <a:solidFill>
                  <a:srgbClr val="292934"/>
                </a:solidFill>
                <a:latin typeface="Arial"/>
              </a:rPr>
              <a:t>(eng. </a:t>
            </a:r>
            <a:r>
              <a:rPr b="0" i="1" lang="en-GB" sz="1800" spc="-1" strike="noStrike">
                <a:solidFill>
                  <a:srgbClr val="292934"/>
                </a:solidFill>
                <a:latin typeface="Arial"/>
              </a:rPr>
              <a:t>ANNEX VII Special Conditions Grant Contract– Expenditure Verification</a:t>
            </a:r>
            <a:r>
              <a:rPr b="0" i="1" lang="hr-HR" sz="1800" spc="-1" strike="noStrike">
                <a:solidFill>
                  <a:srgbClr val="292934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292934"/>
                </a:solidFill>
                <a:latin typeface="Arial"/>
              </a:rPr>
              <a:t>TERMS OF REFERENCE FOR AN EXPENDITURE VERIFICATION OF A GRANT CONTRACT</a:t>
            </a:r>
            <a:r>
              <a:rPr b="0" i="1" lang="hr-HR" sz="18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79160" y="56520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ATJEČAJNE PROCEDURE I IZNOSI - USLU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95280" y="1700280"/>
          <a:ext cx="8209080" cy="4105080"/>
        </p:xfrm>
        <a:graphic>
          <a:graphicData uri="http://schemas.openxmlformats.org/drawingml/2006/table">
            <a:tbl>
              <a:tblPr/>
              <a:tblGrid>
                <a:gridCol w="817560"/>
                <a:gridCol w="2657520"/>
                <a:gridCol w="1992240"/>
                <a:gridCol w="1924200"/>
                <a:gridCol w="817560"/>
              </a:tblGrid>
              <a:tr h="506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=20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e4bc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.000&gt; X &gt;1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= 1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520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USLUGE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đunarodni ograničeni postupak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4bc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pak pregovaranj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ravna nabav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=15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.000&gt; X &gt; 6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000 &gt; X &gt; 1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= 1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506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OPREM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đunarodni otvoreni postupak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ravna nabav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520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56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kalni otvoreni postupak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pak pregovaranj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856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506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= 5.00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il&gt; X &gt;= 30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.000&gt;&amp;&gt;1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= 1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504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ADOVI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đunarodni otvoreni postupak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pak pregovaranj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ravna nabav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520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56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kalni otvoreni postupak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56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856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IKATORI RIZIKA SEKUNDARNE NABA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92934"/>
                </a:solidFill>
                <a:latin typeface="Arial"/>
              </a:rPr>
              <a:t>Nepodudaranje datuma dokumenata ili nelogični slijed datuma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. Primjeri</a:t>
            </a: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Ponuda datirana nakon dodjele ugovora ili prije slanja poziva na podnošenje ponuda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Pobjednička ponuda datirana prije objave natječaja ili značajno kasnije od ostalih prispjelih ponud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Sve ponude različitih ponuditelja u istom natječaju imaju isti datum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Datumi na dokumentima nisu konzistentni s datumima na pratećoj dokumentaciji </a:t>
            </a: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(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npr</a:t>
            </a: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. 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datum na ponudi se ne slaže s datumom na koverti; datum naveden na faksiranom dokumentu se ne podudara s automatski ispisanom porukom o slanju faks dokumenta</a:t>
            </a: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INDIKATORI RIZIKA SEKUNDARNE NABA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92934"/>
                </a:solidFill>
                <a:latin typeface="Arial"/>
              </a:rPr>
              <a:t>Neobične sličnosti u ponudama kandidata koji sudjeluju u istom natječaju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. Primjeri: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Isto izrazi, rečenice i terminologija u ponudama različitih ponuditelja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Same 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izgled (prijelom)</a:t>
            </a: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 format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 dokumenata</a:t>
            </a: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 (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npr. font, veličina fonta, margine, oblikovanja odjeljaka</a:t>
            </a: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, 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uvlaka itd.</a:t>
            </a: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) 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u ponudama različitih ponuditelj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Slična zaglavlja dokumenata ili log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Iste cijene koriste se u ponudama različitih ponuditelja za više istih proračunskih linija ili podkategorija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Iste gramatičke, pravopisne ili pogreške u tipkanju u ponudama različitih ponuditelja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Korištenje istih pečata ili sličnosti u potpisim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INDIKATORI RIZIKA SEKUNDARNE NABA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92934"/>
                </a:solidFill>
                <a:latin typeface="Arial"/>
              </a:rPr>
              <a:t>Financijska izjava ili druge informacije pokazuju da su dva ponuditelja koja sudjeluju u istom natječaju povezana ili su dio iste grupe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(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npr. gdje su prikazane financijske izjave, bilješke prikrivaju pravo vlasništvo grupe. Podaci o vlasništvu se također mogu pronaći u javnim registrima računa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92934"/>
                </a:solidFill>
                <a:latin typeface="Arial"/>
              </a:rPr>
              <a:t>Nepodudarnosti/nedosljednosti u selekcijskom postupku i postupku dodjele ugovora.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 Primjeri</a:t>
            </a: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Odluka o dodjeli ugovora nije u skladu sa selekcijskim kriterijima i kriterijima dodjele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Pogreške u primjeni selekcijskih kriterija i kriterija dodjele ugovora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Redovni dobavljač korisnika sudjeluje kao član ocjenjivačkog odbor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INDIKATORI RIZIKA SEKUNDARNE NABA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Drugi elementi i primjeri koji ukazuju na </a:t>
            </a:r>
            <a:r>
              <a:rPr b="1" lang="hr-HR" sz="1800" spc="-1" strike="noStrike">
                <a:solidFill>
                  <a:srgbClr val="292934"/>
                </a:solidFill>
                <a:latin typeface="Arial"/>
              </a:rPr>
              <a:t>rizik privilegiranog odnosa s ponuditeljima: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Isti ponuditelj (ili manja skupina ponuditelja) je neuobičajeno često pozvana na različite natječaje koje je objavio korisnik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Isti ponuditelj (ili manja skupina ponuditelja) pobjeđuje neobično visoku proporciju ponud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Ponuditelju se često dodjeljuje ugovor za različite vrste opreme ili usluga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Pobjednički ponuditelj ispostavlja račune na dodatne proizvode koji nisu predviđeni ponudom (npr. dodatni rezervni dijelovi koji se naplaćuju bez jasnog opravdanja troškova, troškovi instaliranja koji nisu predviđeni u ponudi)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INDIKATORI RIZIKA SEKUNDARNE NABA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92934"/>
                </a:solidFill>
                <a:latin typeface="Arial"/>
              </a:rPr>
              <a:t>Druga dokumentacija i primjeri koji ukazuju na rizik nepravilnosti u nabavi: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Preslike dokumenata umjesto originalnih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Korištenje </a:t>
            </a: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pro-forma 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računa kao dokaza plaćanja umjesto službenih računa/ faktur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Manualne promjene na originalnim dokumentima </a:t>
            </a: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(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npr.</a:t>
            </a: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brojke ispravljene rukom, pretipkane itd.)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</a:rPr>
              <a:t>Korištenje neslužbenih dokumenata (npr. memorandum koji ne sadrži službene obvezne informacije kao što su matični broj, OIB itd.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COS - Samostalna služba za suzbijanje nepravilnosti i prijevar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292934"/>
                </a:solidFill>
                <a:latin typeface="Arial"/>
              </a:rPr>
              <a:t>Samostalna služba za suzbijanje nepravilnosti i prijevara nadležna je za:</a:t>
            </a:r>
            <a:r>
              <a:rPr b="0" lang="vi-VN" sz="1800" spc="-1" strike="noStrike">
                <a:solidFill>
                  <a:srgbClr val="292934"/>
                </a:solidFill>
                <a:latin typeface="Arial"/>
              </a:rPr>
              <a:t> </a:t>
            </a:r>
            <a:br>
              <a:rPr sz="1800"/>
            </a:br>
            <a:r>
              <a:rPr b="0" lang="vi-VN" sz="1800" spc="-1" strike="noStrike">
                <a:solidFill>
                  <a:srgbClr val="292934"/>
                </a:solidFill>
                <a:latin typeface="Arial"/>
              </a:rPr>
              <a:t>- koordinaciju zakonodavnih, upravnih i operativnih aktivnosti između tijela u AFCOS sustavu s ciljem zaštite financijskih interesa Europske unije, a s tim u vezi i za neposrednu suradnju s Uredom Europske komisije za borbu protiv prijevara (OLAF), </a:t>
            </a:r>
            <a:br>
              <a:rPr sz="1800"/>
            </a:br>
            <a:r>
              <a:rPr b="0" lang="vi-VN" sz="1800" spc="-1" strike="noStrike">
                <a:solidFill>
                  <a:srgbClr val="292934"/>
                </a:solidFill>
                <a:latin typeface="Arial"/>
              </a:rPr>
              <a:t>- razmjenu informacija s tijelima u AFCOS sustavu i OLAF-om o nepravilnostima i prijevarama, </a:t>
            </a:r>
            <a:br>
              <a:rPr sz="1800"/>
            </a:br>
            <a:r>
              <a:rPr b="0" lang="vi-VN" sz="1800" spc="-1" strike="noStrike">
                <a:solidFill>
                  <a:srgbClr val="292934"/>
                </a:solidFill>
                <a:latin typeface="Arial"/>
              </a:rPr>
              <a:t>- osiguravanje provođenja neposrednih inspekcija i istraga OLAF-ovih stručnjaka na području Republike Hrvatske, </a:t>
            </a:r>
            <a:br>
              <a:rPr sz="1800"/>
            </a:br>
            <a:r>
              <a:rPr b="0" lang="vi-VN" sz="1800" spc="-1" strike="noStrike">
                <a:solidFill>
                  <a:srgbClr val="292934"/>
                </a:solidFill>
                <a:latin typeface="Arial"/>
              </a:rPr>
              <a:t>- razvijanje programa stručnog usavršavanja zaposlenika tijela u AFCOS sustavu u suradnji s OLAF-om i pružanje organizacijske potpore u njihovoj realizaciji,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COS -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ostalna služba za suzbijanje nepravilnosti i prijevar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92934"/>
                </a:solidFill>
                <a:latin typeface="Arial"/>
              </a:rPr>
              <a:t>davanje uputa nadležnim tijelima iz AFCOS mreže za postupanje u svrhu prikupljanja dokaza, </a:t>
            </a:r>
            <a:br>
              <a:rPr sz="1800"/>
            </a:br>
            <a:r>
              <a:rPr b="0" lang="vi-VN" sz="1800" spc="-1" strike="noStrike">
                <a:solidFill>
                  <a:srgbClr val="292934"/>
                </a:solidFill>
                <a:latin typeface="Arial"/>
              </a:rPr>
              <a:t>- utvrđenja činjenica te pokretanja postupaka sankcioniranja, pokretanje odgovarajućih postupaka na temelju dojava prikupljenih na elektroničkoj adresi, posebno otvorenoj samo za prijave nepravilnosti, </a:t>
            </a:r>
            <a:br>
              <a:rPr sz="1800"/>
            </a:br>
            <a:r>
              <a:rPr b="0" lang="vi-VN" sz="1800" spc="-1" strike="noStrike">
                <a:solidFill>
                  <a:srgbClr val="292934"/>
                </a:solidFill>
                <a:latin typeface="Arial"/>
              </a:rPr>
              <a:t>- razmjenu informacija s drugim tijelima javne vlasti u slučaju sumnje ili prijave sumnje na prijevaru, korupciju ili drugi oblik nepravilnosti u sustavu te podnošenje odgovarajućih prijava nadležnim tijelima iz AFCOS mreže, </a:t>
            </a:r>
            <a:br>
              <a:rPr sz="1800"/>
            </a:br>
            <a:r>
              <a:rPr b="0" lang="vi-VN" sz="1800" spc="-1" strike="noStrike">
                <a:solidFill>
                  <a:srgbClr val="292934"/>
                </a:solidFill>
                <a:latin typeface="Arial"/>
              </a:rPr>
              <a:t>- praćenje tijeka istražnih postupaka u vezi s protuzakonitim korištenjem sredstava pomoći Europske unije,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COS -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ostalna služba za suzbijanje nepravilnosti i prijevar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92934"/>
                </a:solidFill>
                <a:latin typeface="Arial"/>
              </a:rPr>
              <a:t>izvješćivanje Nacionalnog dužnosnika za ovjeravanje o poduzetim mjerama i rezultatima postupaka pokrenutima u svrhu sankcioniranja otkrivenih nepravilnosti,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92934"/>
                </a:solidFill>
                <a:latin typeface="Arial"/>
              </a:rPr>
              <a:t>- primanje, kontroliranje i objedinjavanje izvješća o nepravilnostima u upravljanju i korištenju sredstava pomoći Europske unije te njihovo dostavljanje Nacionalnom dužnosniku za ovjeravanje, </a:t>
            </a:r>
            <a:br>
              <a:rPr sz="1800"/>
            </a:br>
            <a:r>
              <a:rPr b="0" lang="vi-VN" sz="1800" spc="-1" strike="noStrike">
                <a:solidFill>
                  <a:srgbClr val="292934"/>
                </a:solidFill>
                <a:latin typeface="Arial"/>
              </a:rPr>
              <a:t>- praćenje povrata nezakonito isplaćenih sredstava pomoći Europske unije, </a:t>
            </a:r>
            <a:br>
              <a:rPr sz="1800"/>
            </a:br>
            <a:r>
              <a:rPr b="0" lang="vi-VN" sz="1800" spc="-1" strike="noStrike">
                <a:solidFill>
                  <a:srgbClr val="292934"/>
                </a:solidFill>
                <a:latin typeface="Arial"/>
              </a:rPr>
              <a:t>- vođenje registra o utvrđenim nepravilnostima.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STUPAK PREGOVARANJA USLUGE - KORAC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2492280"/>
            <a:ext cx="40384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Izrada popisa s najmanje 3 izvođač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Priprema poziva ponuditeljima s natječajnom dokumentacijom (može se koristiti i pojednostavljena procedura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Natječajna dokumentacija mora sadržavati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Upute ponuditeljim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Uzorak ugovora s prilozim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3280" y="2421000"/>
            <a:ext cx="450072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ehničke specifikacije</a:t>
            </a:r>
            <a:r>
              <a:rPr b="0" lang="en-US" sz="1800" spc="-1" strike="noStrike" u="sng">
                <a:solidFill>
                  <a:srgbClr val="292934"/>
                </a:solidFill>
                <a:uFillTx/>
                <a:latin typeface="Arial"/>
              </a:rPr>
              <a:t> (ToR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opis stručnjaka i CV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Izjava o objektivnosti i povjerljivosti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Organizacija i metodologij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roračun – obrazac za financijsku ponudu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Obrazac pravne osob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Financijska identifikacij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Obrazac administrativne usklađenosti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Evaluacijski obrazac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Deklaracija ponuditelj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STUPAK PREGOVARANJA USLUGE - KORAC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360" y="2420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Imenovanje odbora za ocjenu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Predsjednik, tajnik – bez prava glas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Najmanje 3 člana (neparan broj) s pravom glas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otpisiva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n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je deklaracije o nepristranosti i povjerljivosti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Otvaranje ponuda –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izvješće o otvaranju ponud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Administ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r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ativni pregled ponud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Ocjenjivanje ponude –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evaluacijski obrazac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Izvješće o ocjenjivanju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Obavijest neuspješnim ponuditeljim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Obavijest uspješnom ponuditelju – nije obavezn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Provjera dokumentacije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Priprema ugovora - potpisivanje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ODGOVORNOSTI </a:t>
            </a:r>
            <a:br>
              <a:rPr sz="3600"/>
            </a:b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ODBORA ZA OCJENJIVANJ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86868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PREDSJEDNIK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 je odgovoran za usklađivanje postupka ocjenjivanja u skladu s pravilima PRAG-a, za osiguranje nepristranosti članova odbora za ocjenu i za transparentnost postupka.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ČLANOVI ODBORA S PRAVOM GLASA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 kolektivno su odgovorni za odluke koje su donijeli.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TAJNIK 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odbora odgovoran je za provedbu svih administrativnih zadataka povezanih s postupkom ocjenjivanja: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pripremu i prikupljanje izjava o nepristranosti i povjerljivosti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vođenje zapisnika svih sjednica odbora za ocjenu, odgovarajućih evidencija i dokumenata,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vođenje evidencije o prisutnosti na sjednicama i pripremu izvješća o ocjenjivanju, te svih priloga.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DGOVORNOSTI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DBORA ZA OCJENJIVANJ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c0000"/>
                </a:solidFill>
                <a:latin typeface="Arial"/>
              </a:rPr>
              <a:t>PAZITE! Sva pojašnjenja koja se zahtijevaju u postupku ocjenjivanja od ponuditelja i kandidata moraju biti u pisanom obliku. Kopije cjelokupne korespondencije s ponuditeljima obvezni su prilog izvješću o ocjenjivanju.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79160" y="56520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ATJEČAJNE PROCEDURE I IZNOSI - OPREM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95280" y="1700280"/>
          <a:ext cx="8209080" cy="4105080"/>
        </p:xfrm>
        <a:graphic>
          <a:graphicData uri="http://schemas.openxmlformats.org/drawingml/2006/table">
            <a:tbl>
              <a:tblPr/>
              <a:tblGrid>
                <a:gridCol w="817560"/>
                <a:gridCol w="2657520"/>
                <a:gridCol w="1992240"/>
                <a:gridCol w="1924200"/>
                <a:gridCol w="817560"/>
              </a:tblGrid>
              <a:tr h="506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=20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e4bc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.000&gt; X &gt;1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= 1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520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USLUGE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đunarodni ograničeni postupak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4bc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pak pregovaranj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ravna nabav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=15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.000&gt; X &gt; 6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000 &gt; X &gt; 1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= 1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506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OPREM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đunarodni otvoreni postupak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ravna nabav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520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56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kalni otvoreni postupak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pak pregovaranj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856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506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= 5.00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il&gt; X &gt;= 30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.000&gt;&amp;&gt;1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= 10.00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504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ADOVI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đunarodni otvoreni postupak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pak pregovaranj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ravna nabav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520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56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kalni otvoreni postupak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56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856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STUPAK PREGOVARANJA OPREMA - KORAC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9280" y="2492280"/>
            <a:ext cx="40388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Izrada popisa s najmanje 3 izvođač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Priprema poziva ponuditeljima s natječajnom dokumentacijom (može se koristiti i pojednostavljena procedura)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Natječajna dokumentacija mora sadržavati: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oziv na predaju ponude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Upute ponuditeljim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Uzorak ugovora s prilozim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osebni uvjeti ugovor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Opći uvjeti ugovor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427280" y="2565000"/>
            <a:ext cx="4537080" cy="36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Tehničke specifikacije </a:t>
            </a:r>
            <a:r>
              <a:rPr b="0" lang="hr-HR" sz="1700" spc="-1" strike="noStrike">
                <a:solidFill>
                  <a:srgbClr val="292934"/>
                </a:solidFill>
                <a:latin typeface="Arial"/>
              </a:rPr>
              <a:t>(ToR)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roračun – obrazac za financijsku ponudu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Obrazac garancije za </a:t>
            </a:r>
            <a:r>
              <a:rPr b="0" lang="hr-HR" sz="17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predfinanciranje</a:t>
            </a:r>
            <a:r>
              <a:rPr b="0" lang="hr-HR" sz="1700" spc="-1" strike="noStrike">
                <a:solidFill>
                  <a:srgbClr val="292934"/>
                </a:solidFill>
                <a:latin typeface="Arial"/>
              </a:rPr>
              <a:t> ako će nabava biti predfinanciran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292934"/>
                </a:solidFill>
                <a:latin typeface="Arial"/>
              </a:rPr>
              <a:t>Obrazac pravne osobe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Financijska identifikacij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Obrazac administrativne usklađenosti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Evaluacijski obrazac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292934"/>
                </a:solidFill>
                <a:latin typeface="Arial"/>
              </a:rPr>
              <a:t>Deklaracija ponuditelj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292934"/>
                </a:solidFill>
                <a:latin typeface="Arial"/>
              </a:rPr>
              <a:t>Obrazac za predaju ponude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292934"/>
                </a:solidFill>
                <a:latin typeface="Arial"/>
              </a:rPr>
              <a:t>Izjava o objektivnosti i povjerljivosti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STUPAK PREGOVARANJA OPREMA - KORAC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8360" y="242064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292934"/>
                </a:solidFill>
                <a:latin typeface="Arial"/>
              </a:rPr>
              <a:t>Imenovanje odbora za ocjenu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292934"/>
                </a:solidFill>
                <a:latin typeface="Arial"/>
              </a:rPr>
              <a:t>Predsjednik, tajnik – bez prava glas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292934"/>
                </a:solidFill>
                <a:latin typeface="Arial"/>
              </a:rPr>
              <a:t>Najmanje 3 člana (neparan broj) s pravom glas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292934"/>
                </a:solidFill>
                <a:latin typeface="Arial"/>
              </a:rPr>
              <a:t>Otvaranje ponuda – izvješće o otvaranju ponud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292934"/>
                </a:solidFill>
                <a:latin typeface="Arial"/>
              </a:rPr>
              <a:t>Potpisivaje deklaracije o nepristranosti i povjerljivosti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292934"/>
                </a:solidFill>
                <a:latin typeface="Arial"/>
              </a:rPr>
              <a:t>Administartivni pregled ponud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292934"/>
                </a:solidFill>
                <a:latin typeface="Arial"/>
              </a:rPr>
              <a:t>Ocjenjivanje ponude – evaluacijski obrazac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292934"/>
                </a:solidFill>
                <a:latin typeface="Arial"/>
              </a:rPr>
              <a:t>Izvješće o ocjenjivanju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292934"/>
                </a:solidFill>
                <a:latin typeface="Arial"/>
              </a:rPr>
              <a:t>Obavijest neuspješnim ponuditeljim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292934"/>
                </a:solidFill>
                <a:latin typeface="Arial"/>
              </a:rPr>
              <a:t>Obavijest uspješnom ponuditelju – nije obavezn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292934"/>
                </a:solidFill>
                <a:latin typeface="Arial"/>
              </a:rPr>
              <a:t>Provjera dokumentacije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292934"/>
                </a:solidFill>
                <a:latin typeface="Arial"/>
              </a:rPr>
              <a:t>Priprema ugovora - potpisivanje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1:14:45Z</dcterms:created>
  <dc:creator>mkoski</dc:creator>
  <dc:description/>
  <dc:language>en-US</dc:language>
  <cp:lastModifiedBy>Admin</cp:lastModifiedBy>
  <dcterms:modified xsi:type="dcterms:W3CDTF">2012-10-11T05:59:55Z</dcterms:modified>
  <cp:revision>128</cp:revision>
  <dc:subject/>
  <dc:title>MODUL 5</dc:title>
</cp:coreProperties>
</file>