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5B6F-C19C-4164-844F-04C1DD12A5D6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485F-9D09-4254-B190-3E5CFE662057}" type="slidenum">
              <a:rPr b="0" lang="hr-HR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E5CF-EBBB-4C30-B327-0AD505818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2D59-2CE1-4981-AEBD-4C21ECCE5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743A-A9C8-485D-A6C5-751592461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1440-AD83-4334-8453-349EC9EBB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8B916-3BC4-41AC-8BC8-DD0C9165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E6F35-56F0-4865-A835-9F322710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DADD1-FA59-4AB2-B59F-A7642CDD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058DD-23B5-487A-9926-34B27FB3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A93B0-DABA-4AFA-BD5F-2C98699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A834B-AEA7-4478-9102-F093950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32E3F-E4F5-4857-8CA1-E6507BC3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83BB-6DF8-49EA-A79B-9A8055157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1FBAE-1928-4231-BA56-B2F1424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2025D-2733-42DA-96B6-2155D28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B2255-F012-4B1C-A32F-101C917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0BD9B-C085-42A0-B6B5-A21FC43F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25190-EF92-45A2-B2EE-6E70480D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8CCAA-4BBC-4B8B-BC30-49F188D1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8CBA0-8D60-4069-B2FD-5E60A5FF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698EA2-15B8-429C-8415-B61BDE5D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A6047-76EE-42B1-A4A0-C4DDE89A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5B6C3-34E3-49AB-B829-E9114121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4E0E-6D2C-46F6-A33F-7CCF0D3228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B83AC-1075-4B0D-BB6F-3FC69D2E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DE7A9-9873-4041-BC46-21F775E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C0059D-F1C6-4B84-B79C-F534984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695A3-00CA-48B4-804A-01E3E57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C896C2-3204-4F6F-9DA9-786C1F7F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B5D006-E198-4555-A80F-E9B384F4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FD107-B810-4BAD-AADD-3468332C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CC1A4-75A3-4750-A35E-AF06B358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F5D52-393D-4D4F-8AB9-EEDEBFD2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21A00-CE4C-4974-A755-3ADE748E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DD98-1B6C-4A57-A6AA-3ED7DB8C17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FF3E5-F882-49CA-ABB7-0FE84A35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3CFAD-5C41-4421-AF9C-80199B7F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73379-3808-4024-9EAB-A7578911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FC07E4-2012-486A-9C28-7A0218D9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6E096-B0B0-4BF5-99B2-B0F1B5B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F3958-B1E3-4638-B94F-76F4EA6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316F0-CA5D-422D-BE04-E3770029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E0561-42B0-4E62-8AC3-96E33042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5AB80-5B22-4193-BB98-3B1DFD16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33CAA-6734-4006-AFDC-6E667076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6EB5-4C3B-4B62-9FA9-4940B9220B6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F95EB2-2BF0-40F3-B032-F9B6B08C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047043-1ACE-400F-A7D8-B961A1F7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8AB4D-C08D-4969-80E1-1F1AC946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143D08-12A8-41A5-B94A-AB86862F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84F4CA-6D8D-43E2-B5D8-CDDC2C0C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94C5AE-8B9B-4D2F-8F43-D272E84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3D392-A0E7-4107-8C6F-AD854A2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73C363-953E-420C-AC45-95A91F0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3B9CFF-69D6-46BE-A88F-D5DFF0A9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87C2C-1A35-41B4-B832-7958CAA5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9412-97B0-4742-BE14-CC27FCC96B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587B3F-7F4F-4A20-ABD0-7E613297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6E24-8537-409E-A1EC-FE920E986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660F-D585-4658-9064-7F3AFD95C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F14A-EBF7-482D-9962-365484C6E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70080"/>
          </a:xfrm>
          <a:prstGeom prst="rect">
            <a:avLst/>
          </a:prstGeom>
          <a:solidFill>
            <a:srgbClr val="000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B172-E132-4712-A0A5-FA547DB8EE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133720"/>
            <a:ext cx="9144000" cy="28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822240" cy="558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85840" y="6237360"/>
            <a:ext cx="246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92934"/>
                </a:solidFill>
                <a:latin typeface="Arial"/>
              </a:rPr>
              <a:t>Ovaj projekt financira Europska unija</a:t>
            </a:r>
            <a:endParaRPr b="0" lang="en-US" sz="11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CD86-094B-472B-BA76-A98CC3CC4B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C0EF-1C35-46EC-A88F-324C6E84A4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8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0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0A11-0C3B-436F-BB60-3E57C16661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0716-EADA-48A5-8557-37530E7240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QR%20radionica/Radionica_QR/IPA4.1.2.1.03.02.c01_1%20QR_PRIMJER/2.%20FRIF/1%20QR_name%20and%20surname%20of%20final%20recipient.doc" TargetMode="External"/><Relationship Id="rId2" Type="http://schemas.openxmlformats.org/officeDocument/2006/relationships/hyperlink" Target="file:///../QR%20radionica/Radionica_QR/IPA4.1.2.1.03.02.c01_1%20QR_PRIMJER/2.%20FRIF/1%20QR_name%20and%20surname%20of%20final%20recipient.doc" TargetMode="External"/><Relationship Id="rId3" Type="http://schemas.openxmlformats.org/officeDocument/2006/relationships/hyperlink" Target="file:///../QR%20radionica/Radionica_QR/IPA4.1.2.1.03.02.c01_1%20QR_PRIMJER/2.%20FRIF/1%20QR_name%20and%20surname%20of%20final%20recipient.doc" TargetMode="External"/><Relationship Id="rId4" Type="http://schemas.openxmlformats.org/officeDocument/2006/relationships/hyperlink" Target="file:///../QR%20radionica/Radionica_QR/IPA4.1.2.1.03.02.c01_1%20QR_PRIMJER/2.%20FRIF/1%20QR_name%20and%20surname%20of%20final%20recipient.doc" TargetMode="External"/><Relationship Id="rId5" Type="http://schemas.openxmlformats.org/officeDocument/2006/relationships/hyperlink" Target="file:///../QR%20radionica/Radionica_QR/IPA4.1.2.1.03.02.c01_1%20QR_PRIMJER/2.%20FRIF/1%20QR_name%20and%20surname%20of%20final%20recipient.doc" TargetMode="External"/><Relationship Id="rId6" Type="http://schemas.openxmlformats.org/officeDocument/2006/relationships/hyperlink" Target="file:///../QR%20radionica/Radionica_QR/IPA4.1.2.1.03.02.c01_1%20QR_PRIMJER/2.%20FRIF/1%20QR_name%20and%20surname%20of%20final%20recipient.doc" TargetMode="External"/><Relationship Id="rId7" Type="http://schemas.openxmlformats.org/officeDocument/2006/relationships/hyperlink" Target="file:///../QR%20radionica/Radionica_QR/IPA4.1.2.1.03.02.c01_1%20QR_PRIMJER/2.%20FRIF/1%20QR_name%20and%20surname%20of%20final%20recipient.doc" TargetMode="External"/><Relationship Id="rId8" Type="http://schemas.openxmlformats.org/officeDocument/2006/relationships/hyperlink" Target="file:///../QR%20radionica/Radionica_QR/IPA4.1.2.1.03.02.c01_1%20QR_PRIMJER/2.%20FRIF/1%20QR_name%20and%20surname%20of%20final%20recipient.doc" TargetMode="External"/><Relationship Id="rId9" Type="http://schemas.openxmlformats.org/officeDocument/2006/relationships/hyperlink" Target="file:///../QR%20radionica/Radionica_QR/IPA4.1.2.1.03.02.c01_1%20QR_PRIMJER/2.%20FRIF/1%20QR_name%20and%20surname%20of%20final%20recipient.doc" TargetMode="Externa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c.europa.eu/budget/inforeuro/index.cfm?Language=en" TargetMode="External"/><Relationship Id="rId2" Type="http://schemas.openxmlformats.org/officeDocument/2006/relationships/hyperlink" Target="http://ec.europa.eu/budget/inforeuro/index.cfm?Language=en" TargetMode="External"/><Relationship Id="rId3" Type="http://schemas.openxmlformats.org/officeDocument/2006/relationships/hyperlink" Target="http://ec.europa.eu/budget/inforeuro/index.cfm?Language=en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13924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EU projektni menadžment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57576e"/>
                </a:solidFill>
                <a:latin typeface="Arial"/>
              </a:rPr>
              <a:t>Vođenje projek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68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2133720"/>
            <a:ext cx="9144000" cy="28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5950080"/>
            <a:ext cx="822240" cy="558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041480" y="6093000"/>
            <a:ext cx="246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92934"/>
                </a:solidFill>
                <a:latin typeface="Arial"/>
              </a:rPr>
              <a:t>Ovaj projekt financira Europska unija</a:t>
            </a:r>
            <a:endParaRPr b="0" lang="en-US" sz="11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VARTALNI IZVJEŠTA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216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Narativni i financijski dio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4 radna lista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1. tablica: opće informacij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2. tablica: napredak projek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3. tablica: indikator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4. tablica: financijski izvještaj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VARTALNI IZVJEŠTAJ – LIS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95280" y="981000"/>
          <a:ext cx="8220240" cy="5438880"/>
        </p:xfrm>
        <a:graphic>
          <a:graphicData uri="http://schemas.openxmlformats.org/drawingml/2006/table">
            <a:tbl>
              <a:tblPr/>
              <a:tblGrid>
                <a:gridCol w="2691000"/>
                <a:gridCol w="5529240"/>
              </a:tblGrid>
              <a:tr h="258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ogram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60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Kod programa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441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Naziv sheme dodjele bespovratnih sredstava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60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EuropAid broj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Naziv projekta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44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Broj ugovora o dodjeli bespovratnih sredstava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4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Naziv korisnika bespovratnih sredstava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Ime osobe za kontakt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60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Ime projektnih partnera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kupni prihvatljivi troškovi projekta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Iznos koji će financirati Ugovaratelj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Trajanje projekta (u mjesecima)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44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azdoblje provedbe projekta (datum od-do)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4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60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 kvartalno razdoblje (datum od-do)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4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 kvartalno razdoblje (datum od-do)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 kvartalno razdoblje (datum od-do)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8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. kvartalno razdoblje (datum od-do)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60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. kvartalno razdoblje (datum od-do)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257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. kvartalno razdoblje (datum od-do)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VARTALNI IZVJEŠTAJ - NAPRED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24000" y="2708280"/>
            <a:ext cx="8216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u prvih 5 redaka unijeti</a:t>
            </a:r>
            <a:r>
              <a:rPr b="0" lang="en-GB" sz="2000" spc="-1" strike="noStrike">
                <a:solidFill>
                  <a:srgbClr val="292934"/>
                </a:solidFill>
                <a:latin typeface="Arial"/>
                <a:ea typeface="Tahoma"/>
              </a:rPr>
              <a:t>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broj aktivnosti i ime aktivnosti sukladno prijavnom obrascu/logičkoj matrici,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lanirano trajanje provedbe aktivnosti,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neposredni rezultati (outputi) koji se trebaju ostvariti,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lanirani broj osoba ciljne skupine,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ovezane rizike, definirane prijavnim obrasce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6756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VARTALNI IZVJEŠTAJ - NAPRED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24000" y="2637000"/>
            <a:ext cx="8216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4000" indent="-182880">
              <a:spcBef>
                <a:spcPts val="400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34"/>
                </a:solidFill>
                <a:latin typeface="Arial"/>
                <a:ea typeface="Tahoma"/>
              </a:rPr>
              <a:t>Postignuti neposredni rezultati – </a:t>
            </a:r>
            <a:r>
              <a:rPr b="0" lang="hr-HR" sz="1600" spc="-1" strike="noStrike">
                <a:solidFill>
                  <a:srgbClr val="292934"/>
                </a:solidFill>
                <a:latin typeface="Arial"/>
                <a:ea typeface="Tahoma"/>
              </a:rPr>
              <a:t>zapisnici sa sastanaka, fotografije, prijavnice, evaluacijski listovi, prezentacijski materijali, nabava i bilo koja druga dokumentacija koja dokazuje da je neka aktivnost provedena – link na mapu sa skeniranim dokumentima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spcBef>
                <a:spcPts val="400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34"/>
                </a:solidFill>
                <a:latin typeface="Arial"/>
                <a:ea typeface="Tahoma"/>
              </a:rPr>
              <a:t>Uključene ciljne skupine </a:t>
            </a:r>
            <a:r>
              <a:rPr b="0" lang="hr-HR" sz="1600" spc="-1" strike="noStrike">
                <a:solidFill>
                  <a:srgbClr val="292934"/>
                </a:solidFill>
                <a:latin typeface="Arial"/>
                <a:ea typeface="Tahoma"/>
              </a:rPr>
              <a:t>(navesti ime ciljne skupine i broj osoba uključenih u tromjesečnu provedbu aktivnosti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spcBef>
                <a:spcPts val="400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34"/>
                </a:solidFill>
                <a:latin typeface="Arial"/>
                <a:ea typeface="Tahoma"/>
              </a:rPr>
              <a:t>Status provedbe </a:t>
            </a:r>
            <a:r>
              <a:rPr b="0" lang="hr-HR" sz="1600" spc="-1" strike="noStrike">
                <a:solidFill>
                  <a:srgbClr val="292934"/>
                </a:solidFill>
                <a:latin typeface="Arial"/>
                <a:ea typeface="Tahoma"/>
              </a:rPr>
              <a:t>(nije započela / pripremna faza / u provedbi / provedeno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spcBef>
                <a:spcPts val="400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34"/>
                </a:solidFill>
                <a:latin typeface="Arial"/>
                <a:ea typeface="Tahoma"/>
              </a:rPr>
              <a:t>Problemi na koje se naišlo / provedena rješenja </a:t>
            </a:r>
            <a:r>
              <a:rPr b="0" lang="hr-HR" sz="1600" spc="-1" strike="noStrike">
                <a:solidFill>
                  <a:srgbClr val="292934"/>
                </a:solidFill>
                <a:latin typeface="Arial"/>
                <a:ea typeface="Tahoma"/>
              </a:rPr>
              <a:t>(ako su uočeni neki problemi tijekom provedbe, molimo navedite ih, zajedno s rješenjima koja će se provesti ili su provedena kao preventivne/korektivne mjere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820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RATNI DOKUMENTI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POSREDNI REZULTATI (OUTPUTS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56760" y="2637000"/>
            <a:ext cx="8217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Materijali s radionica (prezentacije, radni materijal, evaluacijski upitnici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Liste prisutnosti sudionik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Analize, studije, priručnici, anket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Brošure, letci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Fotografij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Preslika svih dokumenata o provedenoj nabavi (uključujući certifikat o podrijetlu robe, potpisane deklaracije, evaluacijski izvještaj, ponude, životopise i sl.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VARTALNI IZVJEŠTAJ – LIS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Content Placeholder 4" descr=""/>
          <p:cNvPicPr/>
          <p:nvPr/>
        </p:nvPicPr>
        <p:blipFill>
          <a:blip r:embed="rId1"/>
          <a:stretch/>
        </p:blipFill>
        <p:spPr>
          <a:xfrm>
            <a:off x="1116000" y="1432080"/>
            <a:ext cx="57610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VARTALNI IZVJEŠTAJ - INDIKATO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216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4000" indent="-182880"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Indikatori na nivou Operativnog programa RLJ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1"/>
              </a:rPr>
              <a:t>FRIF (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2"/>
              </a:rPr>
              <a:t>Final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3"/>
              </a:rPr>
              <a:t> 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4"/>
              </a:rPr>
              <a:t>Recipient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5"/>
              </a:rPr>
              <a:t> 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6"/>
              </a:rPr>
              <a:t>Identification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7"/>
              </a:rPr>
              <a:t> 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8"/>
              </a:rPr>
              <a:t>Form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9"/>
              </a:rPr>
              <a:t>)</a:t>
            </a: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 - krajnjim korisnikom smatra se jedna osoba bez obzira u koliko aktivnosti unutar pojedinog projekta sudjeluj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Ispunjavaju samo osobe koje su korisnici edukativnih programa u projektu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rikupljanje i obrada osobnih podataka mora biti u skladu sa Zakonom o zaštiti osobnih podataka, uz privolu ispitanika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VARTALNI IZVJEŠTAJ – LIST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00000" y="1700280"/>
          <a:ext cx="7993080" cy="4432320"/>
        </p:xfrm>
        <a:graphic>
          <a:graphicData uri="http://schemas.openxmlformats.org/drawingml/2006/table">
            <a:tbl>
              <a:tblPr/>
              <a:tblGrid>
                <a:gridCol w="4078440"/>
                <a:gridCol w="890640"/>
                <a:gridCol w="936360"/>
                <a:gridCol w="1079640"/>
                <a:gridCol w="1008000"/>
              </a:tblGrid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okazatelji Operativnog programa za razvoj ljudskih potencijala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Naziv pokazatelja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n-NO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OSTIGNUTI BROJ za 1. kvartal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n-NO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OSTIGNUTI BROJ za 2. kvartal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n-NO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OSTIGNUTI BROJ za 3. kvartal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n-NO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OSTIGNUTI BROJ za 4. kvartal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           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92934"/>
                          </a:solidFill>
                          <a:latin typeface="TimesNew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516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VARTALNI IZVJEŠTAJ - FINANCI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24000" y="2637000"/>
            <a:ext cx="8216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Svaki pojedinačni trošak (račun) je potrebno unijeti pod odgovarajuću proračunsku liniju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roračunske linije i ugovoreni iznosi moraju biti u skladu s proračunom iz ugovora ili sa zadnjom promjenom (</a:t>
            </a:r>
            <a:r>
              <a:rPr b="0" lang="en-GB" sz="2000" spc="-1" strike="noStrike">
                <a:solidFill>
                  <a:srgbClr val="292934"/>
                </a:solidFill>
                <a:latin typeface="Arial"/>
                <a:ea typeface="Tahoma"/>
              </a:rPr>
              <a:t>addendum</a:t>
            </a: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 i/ili realokacija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Bilježiti redovito sve troškove u trenutku njihovog nastanka tijekom cijelog razdoblja provedbe projek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Troškovi prikazani u kvartalnom financijskom izvještaju su oni koji su plaćeni u izvještajnom razdoblju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-15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VARTALNI IZVJEŠTAJ – LIST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50920" y="476280"/>
          <a:ext cx="8507160" cy="6095880"/>
        </p:xfrm>
        <a:graphic>
          <a:graphicData uri="http://schemas.openxmlformats.org/drawingml/2006/table">
            <a:tbl>
              <a:tblPr/>
              <a:tblGrid>
                <a:gridCol w="1601640"/>
                <a:gridCol w="277920"/>
                <a:gridCol w="284040"/>
                <a:gridCol w="368280"/>
                <a:gridCol w="368280"/>
                <a:gridCol w="282600"/>
                <a:gridCol w="304920"/>
                <a:gridCol w="374760"/>
                <a:gridCol w="347400"/>
                <a:gridCol w="292320"/>
                <a:gridCol w="388800"/>
                <a:gridCol w="473040"/>
                <a:gridCol w="285840"/>
                <a:gridCol w="345960"/>
                <a:gridCol w="381240"/>
                <a:gridCol w="374400"/>
                <a:gridCol w="997200"/>
                <a:gridCol w="369720"/>
                <a:gridCol w="388800"/>
              </a:tblGrid>
              <a:tr h="614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Kvartalno financijsko izvješće za razdoblje: (dd/mm/gggg-dd/mm/gggg)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govoreno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enamjene u 1. kvartalu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Troškovi nastali tijekom 1. kvartala izvještavanj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kumulirani apsolutni iznos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kumulativni postotak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7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 Umetnite proračun projekt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 Umetnite pojedinačne proračunske linije kako su nastajali troškovi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Jedinic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Količina jedinic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ijena jedinice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kupno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Jedinic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Količina jedinic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ijena jedinice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kupno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Jedinic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Količina jedinic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Izvorna valut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kupno u izvornoj valuti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osječni tečaj razmjene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kupno u EUR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atum kad je trošak nastao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ostupni popratni dokumenti (s brojem računa itd.)</a:t>
                      </a:r>
                      <a:br>
                        <a:rPr sz="1000"/>
                      </a:br>
                      <a:r>
                        <a:rPr b="1" lang="hr-HR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NESITE HIPERVEZU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apsolutni iznos potrošnje u glavi proračun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elativni iznos potrošnje proračun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6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 Ljudski potencijali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1 Plaće (bruto iznosi, lokalno osoblje)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1.1 Tehničko osoblje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1.2 Administrativno osoblje/osoblje za potporu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2 Plaće (bruto iznosi, međunarodno osoblje)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3 Dnevnice za misije/putovanj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3.1 U inozemstvo (osoblje dodijeljeno projektu)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3.2 Lokalno (osoblje dodijeljeno projektu)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3.3 Sudionici seminara/konferencija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Međusuma za ljudske potencijale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D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24000" y="2781360"/>
            <a:ext cx="8216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60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34"/>
                </a:solidFill>
                <a:latin typeface="Arial"/>
                <a:ea typeface="Tahoma"/>
              </a:rPr>
              <a:t>PDV nije prihvatljiv troša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34"/>
                </a:solidFill>
                <a:latin typeface="Arial"/>
                <a:ea typeface="Tahoma"/>
              </a:rPr>
              <a:t>Ovjereni Posebni uvjeti od strane Ugovornog tijel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34"/>
                </a:solidFill>
                <a:latin typeface="Arial"/>
                <a:ea typeface="Tahoma"/>
              </a:rPr>
              <a:t>Korisnik izrađuje preslike toga i ovjerava ih svojim potpisom i pečatom te je to dokaz dobavljačima da mogu biti oslobođeni od PDV-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ČA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24000" y="2565000"/>
            <a:ext cx="8216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Za sve ukupne troškove izvještajnog razdoblja koristi se prosječni tečaj tog razdoblja (IPA IV; u IPA II Prekogranična suradnja Mađarska – Hrvatska koristi se tečaj onog mjeseca kad se piše izvješće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Tečajevi koji se moraju koristiti su oni koje objavljuje Europska komisija. Vidjeti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  <a:ea typeface="Tahoma"/>
              </a:rPr>
              <a:t>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1"/>
              </a:rPr>
              <a:t>http://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2"/>
              </a:rPr>
              <a:t>ec.europa.eu/budget/inforeuro/index.cfm?Language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3"/>
              </a:rPr>
              <a:t>=en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  <a:ea typeface="Tahoma"/>
              </a:rPr>
              <a:t>)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Kod unošenja tečaja za svaki trošak treba se unijeti isti prosječni tečaj (</a:t>
            </a:r>
            <a:r>
              <a:rPr b="1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sa 6 decimalnih mjesta</a:t>
            </a: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) u sve retke jednog izvješć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34"/>
                </a:solidFill>
                <a:latin typeface="Arial"/>
                <a:ea typeface="Tahoma"/>
              </a:rPr>
              <a:t>Konačna vrijednost utrošenih sredstava projekta u eurima biti će poznata tek u završnom izvještaju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RATNI DOKUMENTI FINANCIJ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24000" y="2637000"/>
            <a:ext cx="8496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4000" indent="-182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Račun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utni naloz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Liste kilometara službenih vozil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latne liste zaposlenik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Evidencije radnog vremen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Ugovori o djelu, studentski ugovori, ugovori o autorskom honoraru i sl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-182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Izvodi </a:t>
            </a: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– navedeni u posebnoj mapi (folderu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STALA IZVJEŠĆ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alno narativno izvješć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alno financijsko izvješć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D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24000" y="2491920"/>
            <a:ext cx="8496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150000"/>
              </a:lnSpc>
              <a:spcBef>
                <a:spcPts val="550"/>
              </a:spcBef>
              <a:spcAft>
                <a:spcPts val="300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92934"/>
                </a:solidFill>
                <a:latin typeface="Arial"/>
                <a:ea typeface="Tahoma"/>
              </a:rPr>
              <a:t>Pravna osnova (mora biti na računu od dobavljača): Prema p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  <a:ea typeface="Tahoma"/>
              </a:rPr>
              <a:t>ravilnik</a:t>
            </a:r>
            <a:r>
              <a:rPr b="0" lang="hr-HR" sz="2200" spc="-1" strike="noStrike">
                <a:solidFill>
                  <a:srgbClr val="292934"/>
                </a:solidFill>
                <a:latin typeface="Arial"/>
                <a:ea typeface="Tahoma"/>
              </a:rPr>
              <a:t>u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  <a:ea typeface="Tahoma"/>
              </a:rPr>
              <a:t>o porezu na dodanu vrijednost</a:t>
            </a:r>
            <a:r>
              <a:rPr b="0" lang="hr-HR" sz="2200" spc="-1" strike="noStrike">
                <a:solidFill>
                  <a:srgbClr val="292934"/>
                </a:solidFill>
                <a:latin typeface="Arial"/>
                <a:ea typeface="Tahoma"/>
              </a:rPr>
              <a:t> 149/09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550"/>
              </a:spcBef>
              <a:spcAft>
                <a:spcPts val="300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92934"/>
                </a:solidFill>
                <a:latin typeface="Arial"/>
                <a:ea typeface="Tahoma"/>
              </a:rPr>
              <a:t>Korisnik bespovratnih sredstava vodi evidenciju o dobavljačima koje je oslobodio od plaćanja PDV-a – početkom godine se predaje Izvješće o ostvarenim oslobođenjima od plaćanja PDV-a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JEK PLAĆANJA IPA 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24000" y="2708280"/>
            <a:ext cx="8216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4040" indent="-2840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Ako projekt traje 12 mjeseci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Prva uplata:</a:t>
            </a:r>
            <a:r>
              <a:rPr b="0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 </a:t>
            </a:r>
            <a:r>
              <a:rPr b="1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80%</a:t>
            </a:r>
            <a:r>
              <a:rPr b="0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 </a:t>
            </a: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darovnice EU u roku od</a:t>
            </a:r>
            <a:r>
              <a:rPr b="0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 45 </a:t>
            </a: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dana od kad je ugovorno tijelo primilo</a:t>
            </a:r>
            <a:r>
              <a:rPr b="0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: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615960" indent="-23652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Potpisani ugovor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615960" indent="-23652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Zahtjev za plaćanje</a:t>
            </a:r>
            <a:r>
              <a:rPr b="0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 (</a:t>
            </a: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obrazac u Prilogu V ugovoru</a:t>
            </a:r>
            <a:r>
              <a:rPr b="0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)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Završna uplata – završno plaćanje:</a:t>
            </a:r>
            <a:r>
              <a:rPr b="0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 </a:t>
            </a:r>
            <a:r>
              <a:rPr b="1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razlika</a:t>
            </a:r>
            <a:r>
              <a:rPr b="0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 </a:t>
            </a: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u roku od 45 dana od kad je ugovorno tijelo primilo: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615960" indent="-23652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Valjano završno izvješće sa svim prilozima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615960" indent="-23652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Zahtjev za plaćanje</a:t>
            </a:r>
            <a:r>
              <a:rPr b="0" lang="en-GB" sz="1900" spc="-1" strike="noStrike">
                <a:solidFill>
                  <a:srgbClr val="292934"/>
                </a:solidFill>
                <a:latin typeface="Arial"/>
                <a:ea typeface="Tahoma"/>
              </a:rPr>
              <a:t> (</a:t>
            </a:r>
            <a:r>
              <a:rPr b="0" lang="hr-HR" sz="1900" spc="-1" strike="noStrike">
                <a:solidFill>
                  <a:srgbClr val="292934"/>
                </a:solidFill>
                <a:latin typeface="Arial"/>
                <a:ea typeface="Tahoma"/>
              </a:rPr>
              <a:t>obrazac u Prilogu V ugovoru)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JEK PLAĆANJA IPA 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92934"/>
                </a:solidFill>
                <a:latin typeface="Arial"/>
              </a:rPr>
              <a:t>Ako projekt traje preko 12 mjeseci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</a:rPr>
              <a:t>Prva uplata: 80% sredstava predviđenih za prvu godinu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</a:rPr>
              <a:t>Međuplaćanje: ako je korisnik potrošio minimalno 70% od avansa za prvu godinu (izvještaj o napretku projekta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</a:rPr>
              <a:t>Završno plaćanj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ĆANJA IPA 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23640" y="2852280"/>
            <a:ext cx="828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4040" indent="-284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Zahtjev za plaćanje potpisan od strane potpisnika grant ugovor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oseban kunski račun za projekt (osim ako Zakon zabranjuje korisniku otvaranje posebnog računa / podračuna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Rok je 45 dana od valjanog zahtjeva / odobrenog izvještaj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U kunskoj valut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ZAVRŠNO PLAĆAN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24000" y="2637000"/>
            <a:ext cx="8216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reostali iznos bespovratnih sredstava – maksimalno 20% sredstav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Bit će isplaćeno u roku od 45 dana od odobrenja završnog izvješća i primitka ispravno ispunjenog zahtjeva za završnim plaćanje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Iznos završnog plaćanja ovisi o odobrenju završnog izvješća i </a:t>
            </a:r>
            <a:r>
              <a:rPr b="0" lang="hr-HR" sz="2000" spc="-1" strike="noStrike" u="sng">
                <a:solidFill>
                  <a:srgbClr val="292934"/>
                </a:solidFill>
                <a:uFillTx/>
                <a:latin typeface="Arial"/>
                <a:ea typeface="Tahoma"/>
              </a:rPr>
              <a:t>završnim ukupnim prihvatljivim sredstvima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Tahoma"/>
              </a:rPr>
              <a:t> – </a:t>
            </a: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neprihvatljivi troškovi će se oduzeti od ukupnog iznos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NOVČANI TIJEK (cash flo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24000" y="2708280"/>
            <a:ext cx="8216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4040" indent="-284040"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Uplata za predfinanciranje će pokriti dio troškova, ali ne i do samog kraja projek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Svi se troškovi moraju platiti prije slanja finalnog izvještaj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hr-HR" sz="2000" spc="-1" strike="noStrike">
                <a:solidFill>
                  <a:srgbClr val="292934"/>
                </a:solidFill>
                <a:latin typeface="Arial"/>
                <a:ea typeface="Tahoma"/>
              </a:rPr>
              <a:t>Planirati osiguranje sredstava za 20% koje nisu avansno uplaćen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84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601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N TIJEKA NOV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50920" y="981000"/>
          <a:ext cx="8713800" cy="5496120"/>
        </p:xfrm>
        <a:graphic>
          <a:graphicData uri="http://schemas.openxmlformats.org/drawingml/2006/table">
            <a:tbl>
              <a:tblPr/>
              <a:tblGrid>
                <a:gridCol w="3579840"/>
                <a:gridCol w="734760"/>
                <a:gridCol w="433440"/>
                <a:gridCol w="576360"/>
                <a:gridCol w="577800"/>
                <a:gridCol w="561960"/>
                <a:gridCol w="561960"/>
                <a:gridCol w="561960"/>
                <a:gridCol w="563760"/>
                <a:gridCol w="561960"/>
              </a:tblGrid>
              <a:tr h="54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sts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ni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# of units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Unit rate </a:t>
                      </a:r>
                      <a:br>
                        <a:rPr sz="800"/>
                      </a:b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(in EUR)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sts</a:t>
                      </a:r>
                      <a:br>
                        <a:rPr sz="800"/>
                      </a:b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(in EUR)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Month 1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Month 2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Month 3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Month 4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Month 5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 Human Resources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30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1 Salaries (gross salaries including social security charges and other related costs, local staff)</a:t>
                      </a:r>
                      <a:r>
                        <a:rPr b="0" lang="en-US" sz="800" spc="-1" strike="noStrike" baseline="30000">
                          <a:solidFill>
                            <a:srgbClr val="292934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1.1 Technical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mont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mont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,4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2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08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C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mont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2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72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A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mont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1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6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EXPER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mont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6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8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1.2 Administrative/ support staff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mont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2 Salaries (gross salaries including social security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harges and other related costs, expat/int. staff)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mont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3 Per diems for missions/travel</a:t>
                      </a:r>
                      <a:r>
                        <a:rPr b="0" lang="en-US" sz="800" spc="-1" strike="noStrike" baseline="30000">
                          <a:solidFill>
                            <a:srgbClr val="292934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3.1 Abroad (staff assigned to the Action)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die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expert, pm, pc 3 dana stud put u au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die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2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98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98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3.2 Local (staff assigned to the Action)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die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3.3 Seminar/conference participants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die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6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ubtotal Human Resources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066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37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 Travel</a:t>
                      </a:r>
                      <a:r>
                        <a:rPr b="1" lang="en-US" sz="800" spc="-1" strike="noStrike" baseline="30000">
                          <a:solidFill>
                            <a:srgbClr val="292934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1. International travel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fligh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ar per k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k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2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,25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2 Local transportation</a:t>
                      </a: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mont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6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ubtotal Travel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 Equipment and supplies</a:t>
                      </a:r>
                      <a:r>
                        <a:rPr b="1" lang="hr-HR" sz="800" spc="-1" strike="noStrike" baseline="30000">
                          <a:solidFill>
                            <a:srgbClr val="292934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1 Purchase or rent of vehicles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vehicle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2 Furniture, computer equipmen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komp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piece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75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75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tol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piece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2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2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tolice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er piece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2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20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3 Machines, tools…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4 Spare parts/equipment for machines, tools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5 Other (please specify)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  <a:tr h="16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ubtotal Equipment and supplies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9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950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7e5b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14:45Z</dcterms:created>
  <dc:creator>mkoski</dc:creator>
  <dc:description/>
  <dc:language>en-US</dc:language>
  <cp:lastModifiedBy>Admin</cp:lastModifiedBy>
  <dcterms:modified xsi:type="dcterms:W3CDTF">2012-10-11T05:59:18Z</dcterms:modified>
  <cp:revision>67</cp:revision>
  <dc:subject/>
  <dc:title>MODUL 5</dc:title>
</cp:coreProperties>
</file>